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548-677A-45D0-949D-A87277F6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C44-4243-4132-80BA-4E01DFE2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D82-3E31-4E72-8B7D-68DEB727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F43-772A-4BC2-B02F-4BC6BC27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30F-1EB4-4BCD-BB7E-2204B02F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9B7-E780-4A0C-95C7-B88EB284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86F-62CB-408F-B187-0C2A6B15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C89-25D5-428B-BED4-E405D9F1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41B-4DD3-4909-B8A4-DD3E98F1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466-9343-4DBC-81D7-DB5D7673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E58-BE5E-4C41-B0BD-A3A64807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2A9-6D70-48A1-BA39-B901BD3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BC7-7CBD-4F53-AB6B-6C1F396BA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3800520" cy="441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332880" y="1668600"/>
            <a:ext cx="189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2590920" y="1676520"/>
            <a:ext cx="3962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3880" y="1523880"/>
            <a:ext cx="6096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am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906640" cy="407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684520" cy="40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971800" y="1447920"/>
            <a:ext cx="3200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387960" y="1668600"/>
            <a:ext cx="189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728160" y="1668600"/>
            <a:ext cx="189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29880" y="1668600"/>
            <a:ext cx="189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500" spc="-1" strike="noStrike">
                <a:solidFill>
                  <a:srgbClr val="000000"/>
                </a:solidFill>
                <a:latin typeface="Century Gothic"/>
              </a:rPr>
              <a:t>D</a:t>
            </a:r>
            <a:endParaRPr b="0" lang="en-US" sz="2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1:17:41Z</dcterms:created>
  <dc:creator>Chris Mclemore</dc:creator>
  <dc:description/>
  <dc:language>en-US</dc:language>
  <cp:lastModifiedBy>Help Desk</cp:lastModifiedBy>
  <dcterms:modified xsi:type="dcterms:W3CDTF">2009-09-09T21:17:02Z</dcterms:modified>
  <cp:revision>3</cp:revision>
  <dc:subject/>
  <dc:title>PowerPoint Presentation</dc:title>
</cp:coreProperties>
</file>